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BB5-ED57-469C-9A91-BA629608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46A-9F26-46A6-98D8-1386F4C8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B51-3DDC-43C6-A615-6DCEC267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0A4-BE8A-439F-A875-F21726DF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7A0-A4E9-4366-B7F5-8E7D73C4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484D-2961-4621-9217-B680454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6B71-BAF6-4ECA-9BCE-5B7A2AD1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D0C-39C6-4F19-8CC4-1123DD3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8D9-3355-4F37-BDA6-27FC32CC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7D0C-7E7C-437C-A896-E35F5C9D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B447-B224-422E-B16D-71DFAAFA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6E0-AB94-4B0B-B897-DA02173B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AAB0-F599-4755-B803-D31BEEF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309D-6557-49A9-B8D2-86AA569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D487-CB9B-44DF-B3B1-51B923C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3572-6F9D-4CE6-A13E-4967DE34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D1B9-731E-4952-AED0-6DF8C3D8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ED9-0E8F-44BD-932A-E9041A90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485-BC95-4032-BF70-31736A22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25A-CD82-4E0E-A27B-8350369C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74D-05FB-4ED3-8A62-C2605A4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816-C235-4624-BD11-3CFF72E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FF6-8ED5-44A3-BABD-94EA18BC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C8C-BDEB-4E32-9E52-5EF6BE49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BACF-0A0D-4FBB-BDFA-1A6D93A0F9B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3730-5EFD-4C3C-B8DA-8A6EE9422B7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n-voting – Problem or no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/3 of voting population is eligible to vo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erally turnout of registered voters is around 6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don’t they registe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pathy about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dividual responsibility (not automatic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st” of registering increa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tor Voter Law (1993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ires states to allow people to register to vote a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MV’s (while applying for driver’s licens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gistration through mai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ate off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s that provide public ass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o supported, who didn’t?  Wh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didn’t it change the problem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oting not all democracy is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 one of the worst at registering and voting bu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of the best regarding actually taking civic action/being involved in gover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ick history lesson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676160"/>
            <a:ext cx="820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nial governments to 1824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rge property owners (usually white mal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24 - White male suffrage (over 2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67 - African-American suffrag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chnically under the 15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, not enforced until Voting Rights Act of 196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19 - Female suffrag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9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61 – DC suffr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3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71 - New age limit of 18 ye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6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ys to keep people from vot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iginally state issue (Constitution vagu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tricts created through census in 184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7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 gave people right to vote for Sen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mend. stated that can not be banned by r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teracy te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ll taxes (banned via 2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, 196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ing who could vote in primary elec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ndfather clau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imid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t secret ballot (Australian ballo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oting Rights Act (1965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t national requirement on vot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21 year olds (later 18) are eligible if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 residency of more than 30 day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teracy and Poll Taxes illeg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in area where English is second language, options must be presen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l watchers sent to areas under 50% of registered voters vote in Pres. Elec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defines America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ntary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of the rest of the world is different (politics defines you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st likely voter” is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ver 45 years old (male or fema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as at least graduated from colle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gio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e – if 1, 3, and 4 are true for a minority group they typically vote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an whites (however, they represent a small percentag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 why such a bad turnou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ording to political scientists it is becaus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pulation is more youthful than Euro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al parties not as effective today to mobilize the vo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gistration limits (must register by…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 voting is costl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matter as much in US (due to siz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appointment in candidates/the system does not affect turn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02:22Z</dcterms:created>
  <dc:creator>Brent J. Freccia</dc:creator>
  <dc:description/>
  <dc:language>en-US</dc:language>
  <cp:lastModifiedBy>Brent J. Freccia</cp:lastModifiedBy>
  <dcterms:modified xsi:type="dcterms:W3CDTF">2008-12-08T17:24:06Z</dcterms:modified>
  <cp:revision>1</cp:revision>
  <dc:subject/>
  <dc:title>Non-voting – Problem or not?</dc:title>
</cp:coreProperties>
</file>